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085-724E-478F-8CBA-6BB60E08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597-B2FA-4CBF-847B-0674940F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B4B-4A64-439F-AD8C-D4CE4501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1EF-4B1F-4595-83E5-30BDC51D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85A-E076-4FF3-ACBF-26C74DFD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7B7-F835-4B7D-BC9A-7D89BC26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FD7-2EEC-4321-9ACE-361962B7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270-3F63-4240-8ACF-38A2AD6E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99B-B9B2-426C-A5EA-73E51A13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113-3699-4449-B7F0-EF6AF0BA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D06-BDA4-4BE9-8978-2358CADE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835-8534-400D-BBA8-E5A23F2C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44B4-16D8-4EC8-B391-8EF1D7769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Lib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vil liberties are basic rights given to all citizens by the Constitution (speech, due process, et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WWI Americans suppressed Germa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 newspapers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schools stopped teaching G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cians no longer played Bach and Beeth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erkraut was renamed “liberty cabba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gilante groups attacked anyone suspected of supporting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05160" y="380880"/>
            <a:ext cx="335268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vil Liberties During W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German-atrocities-propaganda-hoax"/>
          <p:cNvPicPr/>
          <p:nvPr/>
        </p:nvPicPr>
        <p:blipFill>
          <a:blip r:embed="rId1"/>
          <a:stretch/>
        </p:blipFill>
        <p:spPr>
          <a:xfrm>
            <a:off x="0" y="0"/>
            <a:ext cx="501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7432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German Cart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thinkpint.com/ripleyroots/german_american_halfway_american_cartoon.jpg"/>
          <p:cNvPicPr/>
          <p:nvPr/>
        </p:nvPicPr>
        <p:blipFill>
          <a:blip r:embed="rId1"/>
          <a:stretch/>
        </p:blipFill>
        <p:spPr>
          <a:xfrm>
            <a:off x="2849400" y="0"/>
            <a:ext cx="62946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905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-German Cart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://thinkpint.com/ripleyroots/germans_life_magazine_1915.jpg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68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German Cart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thinkpint.com/ripleyroots/german_american_shooting.jpg"/>
          <p:cNvPicPr/>
          <p:nvPr/>
        </p:nvPicPr>
        <p:blipFill>
          <a:blip r:embed="rId1"/>
          <a:stretch/>
        </p:blipFill>
        <p:spPr>
          <a:xfrm>
            <a:off x="3449520" y="0"/>
            <a:ext cx="56944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son and Repression of German-American Civil Lib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343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millions of men and women of German birth and native sympathy who live amongst us. If there should be disloyalty, it will be dealt with a firm hand of repression."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resident-woodrow-wilson-throwing-out-the-first-ball-opening-day-1916"/>
          <p:cNvPicPr/>
          <p:nvPr/>
        </p:nvPicPr>
        <p:blipFill>
          <a:blip r:embed="rId1"/>
          <a:stretch/>
        </p:blipFill>
        <p:spPr>
          <a:xfrm>
            <a:off x="4952880" y="1523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pionage &amp; Sedition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pionage Act,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Postal Service could ban certain newspapers and magazines from being m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 fine and 20 year jail to anyone who obstructed the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dition Act,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it a federal offense to criticize the Constitution, the government, or the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0:38:52Z</dcterms:created>
  <dc:creator> Dan Hoppe</dc:creator>
  <dc:description/>
  <dc:language>en-US</dc:language>
  <cp:lastModifiedBy>wnichols</cp:lastModifiedBy>
  <dcterms:modified xsi:type="dcterms:W3CDTF">2010-11-08T15:09:06Z</dcterms:modified>
  <cp:revision>4</cp:revision>
  <dc:subject/>
  <dc:title>WWI Propaganda</dc:title>
</cp:coreProperties>
</file>